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4FB-96CA-42C9-8BFC-F615126D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9B6-75A8-497A-B361-5A8C82A0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5F2-0F11-41E4-A383-A9AB27B5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FF2-A3B1-4BAE-A1BF-347B63BF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714-F10C-457A-8AD6-8500D9D9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622-C1F6-4804-BB87-9918C59E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E7C-80DD-45E6-9BA2-307B8B0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1FC-E111-4775-A869-E7F7FDA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FAE-9EFA-45C2-B9EC-9E55D03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B6E-942F-4D82-987C-A6CF3C8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458-B40C-4BB6-8F46-13DA8115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606-BEFC-4D35-85F0-8C09799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76F-2BD0-482F-BB52-8FD17995A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, Lesson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2-1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609480"/>
            <a:ext cx="6705720" cy="764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Remnant Shall Retur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time will not permit a detailed study of Alexander the Great.  We will only hit the high points (and those quick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you read the section in the workbook (pages 124-129) about him.  An interesting period of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onquests changed the course of world history, even though the Macedonians (Greeks) did not attain “empire” status because he did not live long enough to rule over his conqu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ather - Philip II of Mace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356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d under Aristo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good lo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was a strategic area between the East (Asia Minor and Syria) and the West (Greece and Ita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North of the Aege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city states united in 336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II assassinated in 336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immediately took role of king of the Hellenic League at age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shed the rebellion of Thebes – other members quickly brought under hi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llenistic Cultur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derivative of the word “hel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lenist” – means Greek; a non-Greek person who adopted the Greek language and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philosophies penetrate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llenistic Cultur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lenism increased even after Alexander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Jews took Greek names, wore Greek-styled clothes, and learned the Greek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334 BC, he started his march into Asia to face the Persian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used a unique but effective battle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ght against Darius III who finally turned and ran from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Tyre with the help of engin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Gaza again with the help of engin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 opened its arms to Alexander as its deliv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of Alexandria built in his ho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North into the area of Mesopotamia, north of the Tigris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ght Darius III again who fled from the battle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, Darius’ own soldiers kill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made his way to India where he turned and settled i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heavy d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ntracted a fever and died at age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conquests covered about 1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friend to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nemies seemed to have been the Jew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lexander’s Successo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is death, his family was in turm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uccessor to his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enerals divided up his kingdom and fought each other for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prophesied in Daniel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ws faired well under Ptolemy (one of the generals) who was located in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riests” ruled over local affairs in Palestine, or Judea as it was then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446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exander The Great’s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6324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Very similar to the Medo Persi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Between the Testament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in our study today we will discuss the last 75 years of the Persian empi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we will look at the rise of the Greek states and Alexander the Gre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see the status of the Jews during thi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vided Greek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s in the Persian Empire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axerxes Mnemon (405-359 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a phenomen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ointed by his father, Da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ther wanted his younger brother Cyrus to rule rather than Mne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rus rebe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ed an army to defend the land to the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ruited 13,000 Greek mercenaries to help his 100,000 man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against his brother for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s in the Persian Empire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wounded in battle, but Cyrus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enaries returned to Gr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years has passed since the first Cy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axerxes Ochus  (359-338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ointed king by his 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-invigorated the empire for a few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ed Phoenicia, Tyre, Cyprus,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his generals, Bagoas, poisoned him and put his own son, Arses, on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s in the Persian Empire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ses (338-33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by his father who placed Darius III on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us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king of the Persi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w to the Grecian state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, Sparta, Corinth and The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of Macedon elected head of united Greece around 340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s found the Persians to be inferior figh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come confident in overthrowing the Persian army in Asia Mi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was assassinated in 33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the Great, his son, becam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nd the Jew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O. T. ended, Nehemiah, Ezra and Malachi prophes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settled in Judea (Jerusalem) and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ews chose not to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s between the Persians and the Greeks did not directly affect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learned a lesson from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nd the Jew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line was kept pu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ed away from idola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“Jew” and “Gentile” became more notic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agogues formed for sabbath assemb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6:06:09Z</dcterms:created>
  <dc:creator>Frank D Vines</dc:creator>
  <dc:description/>
  <dc:language>en-US</dc:language>
  <cp:lastModifiedBy>Frank D Vines</cp:lastModifiedBy>
  <dcterms:modified xsi:type="dcterms:W3CDTF">2006-06-29T18:42:18Z</dcterms:modified>
  <cp:revision>17</cp:revision>
  <dc:subject/>
  <dc:title>Years Of Silence</dc:title>
</cp:coreProperties>
</file>